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A7B-13CC-42CB-9F5C-28F0BD0F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4D1-211D-400E-8375-FB61E84C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9B2-A250-4234-BA4E-9360D591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9F8-42F2-4133-9449-B80D5E9D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738-F7FE-43F0-880A-4469EAC6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260-FB35-43D9-9259-489C4F84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A31-0307-44B5-99D1-2E763DF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FFD-D757-46AD-84A3-C123A64E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91E-B5DA-4CF5-AC6F-34162BCF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3B6-1815-4F09-955C-AAE4EE3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E9F-413A-46A3-8DDB-E3506BBF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9B6-99D6-4F33-B166-D49010EB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1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084B-2A17-4353-AC49-EA8F6AF62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ot online training.jpg"/>
          <p:cNvPicPr/>
          <p:nvPr/>
        </p:nvPicPr>
        <p:blipFill>
          <a:blip r:embed="rId1"/>
          <a:stretch/>
        </p:blipFill>
        <p:spPr>
          <a:xfrm>
            <a:off x="298440" y="334800"/>
            <a:ext cx="8553600" cy="62676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2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ng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traditionally is more collateral damage as a result of the valuable metal theft than the actual cost to replace the stolen prop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ft of a catalytic converter from an automobile can result in costs of $2,500 to replace an $800.00 part due to the damage to other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involving wire theft from new construction homes often result in thousands of dollars due to related damag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ng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s to commercial facilities can be very high depending on how the business is impa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ample of this is power cable th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ju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petrato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stakehold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uable Metal – means any product made of metal that readily may be sold.  The term includes metal bossies and small component motor vehicle parts.  The term does not include a beverage can.  (IC 25-37.5-1-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rous and Nonferr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 refers to both ferrous and nonferrous me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rous/Nonferrous Met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rous metal – any metal containing a significant quantity of iron or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ferrous – any metal that does not contain a significant amount of iron or steel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umin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n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urpose? What Does it Look Lik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phollowell\Local Settings\Temporary Internet Files\Content.IE5\01AZS923\MPj02898090000[1].jpg"/>
          <p:cNvPicPr/>
          <p:nvPr/>
        </p:nvPicPr>
        <p:blipFill>
          <a:blip r:embed="rId1"/>
          <a:stretch/>
        </p:blipFill>
        <p:spPr>
          <a:xfrm>
            <a:off x="152280" y="16765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phollowell\Local Settings\Temporary Internet Files\Content.IE5\SR4H2VSF\MPj02898080000[1].jpg"/>
          <p:cNvPicPr/>
          <p:nvPr/>
        </p:nvPicPr>
        <p:blipFill>
          <a:blip r:embed="rId2"/>
          <a:stretch/>
        </p:blipFill>
        <p:spPr>
          <a:xfrm>
            <a:off x="5334120" y="16765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3352680" y="4186080"/>
            <a:ext cx="2133720" cy="2671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6863400" y="37339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683360" y="37339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m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968640" y="64882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8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Can be in Most Any Shap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ick the video clip below to p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SCHOOL+BLEACHERS+STOLEN+FOR+SCRAP_WMV V9.wmv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ors can help themselves greatly in solving these crimes by becoming familiar with what each metal looks like and what configuration it may normally be found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ill also be of assistance if investigators become familiar with typical uses for valuable me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knowing the metal’s use, design and function it obviously makes identification of these items easier even when there is an attempt to disguis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not familiar with these aspects a walk through at a salvage yard may not produce the desired results, particularly where an attempt is made to conceal the properties of a certain subst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to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aler in valuable metal (IC 25-37.5-1-2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maintain detailed records of purchases they make, these records can prove very valuable during your investig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chases no longer must be more than one hundred dollars to qualify under IC- 25-37.5-1-1 as s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0" descr="C:\Documents and Settings\phollowell\My Documents\My Pictures\Microsoft Clip Organizer\j0283867.gif"/>
          <p:cNvPicPr/>
          <p:nvPr/>
        </p:nvPicPr>
        <p:blipFill>
          <a:blip r:embed="rId1"/>
          <a:stretch/>
        </p:blipFill>
        <p:spPr>
          <a:xfrm>
            <a:off x="6705720" y="457200"/>
            <a:ext cx="809640" cy="97164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ft of Valuable Me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ptain Perry Hollo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Available to Investigato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information required on the form dealers must complete are (IC 25-37.5-1-2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and address of dea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e and place of each purc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, address, age, D/L or S.S.# of the se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y of government ID with ph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ense number from conveyance used deliver the valuable metal to the dea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graph seller and items sold to the dea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ature of se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easy to see how this could be very valuable information when investigating this particular cr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 25-37.5-1-4 prevents a dealer in valuable metal from immediately destroying items purchased, requiring these items to be set aside for five working days at its regular place of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ers investigating these thefts are aided greatly by this since items (evidence) must be kept separate during this time.  If not stated in this manner items from a purchase could be scattered throughout the business making identification near impossi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ntly another tool was made available to law enforcement to help combat this crime.  IC 35-43-4-2 was amended to make provisions in the theft and receiving stolen property stat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tute states it is a Class C Felony if the stolen property is a valuable metal taken from a key facility, public utility, railroad or highway department when the removal of the metal creates a substantial risk of bodily injury to a per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Documents and Settings\phollowell\Local Settings\Temporary Internet Files\Content.IE5\05IZ0P2B\MCj03977200000[1].wmf"/>
          <p:cNvPicPr/>
          <p:nvPr/>
        </p:nvPicPr>
        <p:blipFill>
          <a:blip r:embed="rId1"/>
          <a:stretch/>
        </p:blipFill>
        <p:spPr>
          <a:xfrm rot="20229600">
            <a:off x="6918480" y="-147600"/>
            <a:ext cx="1563480" cy="1801800"/>
          </a:xfrm>
          <a:prstGeom prst="rect">
            <a:avLst/>
          </a:prstGeom>
          <a:ln w="0">
            <a:noFill/>
          </a:ln>
        </p:spPr>
      </p:pic>
      <p:sp>
        <p:nvSpPr>
          <p:cNvPr id="117" name="Footer Placeholder 4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35-43-2-2 (trespass statute) was amended to elevate criminal trespass to a Class D Felony under certain conditions.  These conditions are such that the elements could easily be a part of a valuable metal theft.  While not directly a law dealing with valuable metal theft it could be a helpful tool for charging a susp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……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lick the video clip below to p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+New+Tool+for+Law+Enforcement_+ScrapTheftAlert.com_WMV V9.wmv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Stat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tes that investigators should become familiar with are located under IC 25-3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center on regulations placed on dealers of valuable metals which provide an enormous amount of information to investigators, particularly if a suspect is developed or if a dealer is suspected of handling stolen me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a theft is just that and for the most part receive the same procedural actions, there are a few special considerations during a valuable metal theft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good investigative tool is visiting dealers of valuable metals since they should have detailed documentation of all s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oming familiar with the properties of the valuable metals is essential  because these products often show up in a disguised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a coat of paint can disguise a metal’s true origi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the “big picture” is to provide prosecutors with all prosecutorial options available such as documenting elements of the crime that would allow for a receiving stolen property to be elevated to a Class “C” Felon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is class students will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the requirements placed upon a buyer and seller of valuable metals (IC 25-37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the elements that elevate receiving stolen property to a Class “C” Felony (IC 35-43-4-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what “valuable metals” are by definition (25-37.5-1-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C:\Documents and Settings\phollowell\Local Settings\Temporary Internet Files\Content.IE5\SR4H2VSF\MMj03363960000[1].gif"/>
          <p:cNvPicPr/>
          <p:nvPr/>
        </p:nvPicPr>
        <p:blipFill>
          <a:blip r:embed="rId1"/>
          <a:stretch/>
        </p:blipFill>
        <p:spPr>
          <a:xfrm>
            <a:off x="2133720" y="11430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138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Not online training.jpg"/>
          <p:cNvPicPr/>
          <p:nvPr/>
        </p:nvPicPr>
        <p:blipFill>
          <a:blip r:embed="rId1"/>
          <a:stretch/>
        </p:blipFill>
        <p:spPr>
          <a:xfrm>
            <a:off x="298440" y="334800"/>
            <a:ext cx="8553600" cy="6267600"/>
          </a:xfrm>
          <a:prstGeom prst="rect">
            <a:avLst/>
          </a:prstGeom>
          <a:ln w="0">
            <a:noFill/>
          </a:ln>
        </p:spPr>
      </p:pic>
      <p:sp>
        <p:nvSpPr>
          <p:cNvPr id="140" name="Footer Placeholder 2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ing the Clas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receive a minimum score of 75% or higher on the written ex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will be provided with documentation indicating successful completion of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may claim one hour of in-service credit for successful completion and will have satisfied the requirement to receive training in investigation of valuable me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a Major Probl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more of an issue than most realize</a:t>
            </a:r>
            <a:br>
              <a:rPr sz="32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lick the video clip below to p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SRI_+Metals+Theft+Video_WMV V9.wmv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257800" cy="39430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5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ing this crime is no different than any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 the s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 witnesses/susp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investigation results to the prosecu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Documents and Settings\phollowell\Local Settings\Temporary Internet Files\Content.IE5\01AZS923\MCj02869430000[1].wmf"/>
          <p:cNvPicPr/>
          <p:nvPr/>
        </p:nvPicPr>
        <p:blipFill>
          <a:blip r:embed="rId1"/>
          <a:stretch/>
        </p:blipFill>
        <p:spPr>
          <a:xfrm>
            <a:off x="6705720" y="4484520"/>
            <a:ext cx="2050920" cy="237348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le the Same Techniques are Used There May be Special Consider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ng the scene will most assuredly require securing minimum of two sites, one where the theft occurred and one where the sale or attempted sale of property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ng evidence may become an issue since there is a possibility it can be of considerable bulk.  What will your procedure be if five tons of copper are recover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ntinued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ecutors may want to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vidence in a special way since logging five tons of copper into the property room or bringing it into court is not an op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that if a dealer purchases property he/she may be your best witness, however they have a vested interest in that they do not want to be arrested for accepting stolen property.  What they tell you may well be slanted to show them as a victim rather than an accomplic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while an investigation of valuable metal thefts is the same procedure as any theft it may have a few special considerations attac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3"/>
          <p:cNvSpPr/>
          <p:nvPr/>
        </p:nvSpPr>
        <p:spPr>
          <a:xfrm>
            <a:off x="3124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sion: 3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7:52:28Z</dcterms:created>
  <dc:creator>perry wayne hollowell</dc:creator>
  <dc:description/>
  <dc:language>en-US</dc:language>
  <cp:lastModifiedBy>Thomas B. Bertram</cp:lastModifiedBy>
  <dcterms:modified xsi:type="dcterms:W3CDTF">2010-03-11T15:49:16Z</dcterms:modified>
  <cp:revision>88</cp:revision>
  <dc:subject/>
  <dc:title>Theft of Valuable Metals</dc:title>
</cp:coreProperties>
</file>